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32.jpeg" ContentType="image/jpeg"/>
  <Override PartName="/ppt/media/image19.wmf" ContentType="image/x-wmf"/>
  <Override PartName="/ppt/media/image18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wmf" ContentType="image/x-wmf"/>
  <Override PartName="/ppt/media/image31.wmf" ContentType="image/x-wmf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13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BBD1-8362-4A71-9B0E-FC26F4B248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L as w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ograph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ma….all need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59DA-9162-4F4F-B280-9A0FC74AA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5FDE-B2AC-483F-91F6-8D7A069BD5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 to phonics stuff from me, Suzi and Rachael Hawkes…remember to give all credits -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 to blogs / wikis / pod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08FE-BC9A-40C0-A848-A9AFF259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9A2B-7B21-4D76-8718-A5E3C0C1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EE5-629E-4337-93BE-FD6965F9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C840-9292-4F34-9B77-6B956656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7B8-7E77-42CC-BE9F-CB22550F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86F2-A936-40D4-9D39-469A074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A0EB-F1AA-4FA2-80CF-A40FD7E7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FF6-6A50-412A-9745-74BA91DAE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526-8929-41BF-A6C7-6D4ADFE9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996-9D0C-4F2F-B50C-21B6D5F8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4917-8D00-4910-B598-5D4F557C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53A-B192-4870-83E5-E5C9A705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7D10-1307-421E-B7A5-E21FE8C4E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glogster.com/" TargetMode="External"/><Relationship Id="rId2" Type="http://schemas.openxmlformats.org/officeDocument/2006/relationships/hyperlink" Target="http://s003.langwitch.edu.glogster.com/glog-332/" TargetMode="External"/><Relationship Id="rId3" Type="http://schemas.openxmlformats.org/officeDocument/2006/relationships/hyperlink" Target="http://s003.langwitch.edu.glogster.com/glog-332/" TargetMode="External"/><Relationship Id="rId4" Type="http://schemas.openxmlformats.org/officeDocument/2006/relationships/hyperlink" Target="http://s004.langwitch.edu.glogster.com/glog-ejf/" TargetMode="External"/><Relationship Id="rId5" Type="http://schemas.openxmlformats.org/officeDocument/2006/relationships/hyperlink" Target="http://s004.langwitch.edu.glogster.com/glog-ejf/" TargetMode="External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all-nsc.org.uk/nsc/" TargetMode="External"/><Relationship Id="rId2" Type="http://schemas.openxmlformats.org/officeDocument/2006/relationships/hyperlink" Target="http://www.rachelhawkes.typepad.com/" TargetMode="External"/><Relationship Id="rId3" Type="http://schemas.openxmlformats.org/officeDocument/2006/relationships/hyperlink" Target="http://www.isabellejones.blogspot.com/" TargetMode="External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helenabutterfield.net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youtube.com/watch?v=tgOcr_EFBsE" TargetMode="External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jpeg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jpeg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jpeg"/><Relationship Id="rId14" Type="http://schemas.openxmlformats.org/officeDocument/2006/relationships/image" Target="../media/image30.wmf"/><Relationship Id="rId15" Type="http://schemas.openxmlformats.org/officeDocument/2006/relationships/image" Target="../media/image31.wmf"/><Relationship Id="rId16" Type="http://schemas.openxmlformats.org/officeDocument/2006/relationships/image" Target="../media/image32.jpeg"/><Relationship Id="rId17" Type="http://schemas.openxmlformats.org/officeDocument/2006/relationships/slide" Target="slide8.xm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ll-nsc.org.uk/nsc/" TargetMode="External"/><Relationship Id="rId2" Type="http://schemas.openxmlformats.org/officeDocument/2006/relationships/hyperlink" Target="http://www.all-nsc.org.uk/nsc/" TargetMode="External"/><Relationship Id="rId3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ll-nsc.org.uk/nsc/?q=node/86" TargetMode="External"/><Relationship Id="rId3" Type="http://schemas.openxmlformats.org/officeDocument/2006/relationships/hyperlink" Target="http://www.all-nsc.org.uk/nsc/?q=node/86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hyperlink" Target="http://www.langwitch.org/stmichaelsmfl" TargetMode="External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cing up your Y7 S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428640"/>
            <a:ext cx="662616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lena Butter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D MFL St. Michael’s RC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into Languages Tr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Twinning Ambass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087280" cy="21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vasacomprarparatuherm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 vas a comprar para tu herma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lleestladatedetonannivers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uelle est la date de ton anniversai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4149360"/>
            <a:ext cx="4176720" cy="18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H*c*   b**n   t**mp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572000" y="2205000"/>
          <a:ext cx="3809880" cy="13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05000"/>
                    <a:ext cx="380988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Text Box 7"/>
          <p:cNvSpPr/>
          <p:nvPr/>
        </p:nvSpPr>
        <p:spPr>
          <a:xfrm flipV="1">
            <a:off x="5292720" y="42181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ne suis pas spor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o wants to be a Millionai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- Answer this question in just 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u as un animal à la maison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- Answer the same question in </a:t>
            </a:r>
            <a:r>
              <a:rPr b="0" lang="en-GB" sz="3000" spc="-1" strike="noStrike">
                <a:solidFill>
                  <a:srgbClr val="ff0000"/>
                </a:solidFill>
                <a:latin typeface="Arial"/>
              </a:rPr>
              <a:t>12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Draw image on partner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s back – school su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Running dic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rouvez l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bière, vin, café, cogna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otage, glace, fromage, tar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hou, pomme, carotte, rad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cuiller, couteau, verre, fourchet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Vous avez choisi?, Vous avez une table sur la terrasse?, Vous êtes combien de personnes?, Et comme dessert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9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n Dia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ontent Placeholder 4" descr=""/>
          <p:cNvPicPr/>
          <p:nvPr/>
        </p:nvPicPr>
        <p:blipFill>
          <a:blip r:embed="rId1"/>
          <a:srcRect l="11634" t="19734" r="26712" b="19734"/>
          <a:stretch/>
        </p:blipFill>
        <p:spPr>
          <a:xfrm>
            <a:off x="1042920" y="1341360"/>
            <a:ext cx="705816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oss curricular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62864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gency FB"/>
              </a:rPr>
              <a:t>Ge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14130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3e336"/>
                </a:solidFill>
                <a:latin typeface="Australian Sunrise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3645000"/>
            <a:ext cx="16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3601"/>
                </a:solidFill>
                <a:latin typeface="Andalus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573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479736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Lucida Calligraphy"/>
              </a:rPr>
              <a:t>D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1341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ngsanaUPC"/>
              </a:rPr>
              <a:t>I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508464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ff"/>
                </a:solidFill>
                <a:latin typeface="Arial Black"/>
              </a:rPr>
              <a:t>P.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imals but not as we know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animaux en danger: Animals with a tw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troduce the children to animals and descriptions in a more interesting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troduce the Global Dimension into M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ntroduce a cross-curricular 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nd when I used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ALL publication Deutsch Lehren und Ler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ear 7 pupils within the topic of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ld be used at anytime in Yea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277040" cy="540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rdku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animaux en d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the langu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ons: 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aking / Listening: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guistic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sheet / independent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ppt / video / glogster to inform people about endangered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deo making – Windows Movie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gster –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logster.co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create and educator accou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glo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log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log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s next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 and resour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zi Bewell: MFL PGCE Curriculum Area Leader,The University of York http://petitepipelette.posterous.com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achel Hawkes: SSAT Lead Practitioner, AST, AHT Comberton Village College www.rachelhawkes.typepad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abelle Jones: Head of MFL, The Radclyffe School, www.isabellejones.blogspot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Deutsch Lehren und Lernen, Spring Term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26920" y="1700280"/>
            <a:ext cx="7848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-nsc.org.uk/nsc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rachelhawkes.typepa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isabellejones.blogspo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hrisharte.typepa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languages.co.uk/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 for list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916280"/>
            <a:ext cx="80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elenabutterfield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langwitch.org/stmichaelsm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 me on Twitt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ww.twitter.com/lang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164360" y="2133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" action="ppaction://hlinkshowjump?jump=endshow"/>
          </p:cNvPr>
          <p:cNvSpPr/>
          <p:nvPr/>
        </p:nvSpPr>
        <p:spPr>
          <a:xfrm>
            <a:off x="7740720" y="5589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427640" y="404640"/>
            <a:ext cx="4248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바탕"/>
              </a:rPr>
              <a:t>Wordle: word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바탕"/>
              </a:rPr>
              <a:t>www.wordl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24000" y="508464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3e336"/>
                </a:solidFill>
                <a:latin typeface="Arial Rounded MT Bold"/>
              </a:rPr>
              <a:t>Go animate: Animated carto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3e336"/>
                </a:solidFill>
                <a:latin typeface="Arial Rounded MT Bold"/>
              </a:rPr>
              <a:t>www.goanimat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19640" y="3213000"/>
            <a:ext cx="5398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0bb6"/>
                </a:solidFill>
                <a:latin typeface="Agency FB"/>
              </a:rPr>
              <a:t>Wallwisher: Sticky notes on a virtua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0bb6"/>
                </a:solidFill>
                <a:latin typeface="Agency FB"/>
              </a:rPr>
              <a:t>www.wallwisher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1844640"/>
            <a:ext cx="7561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dalus"/>
              </a:rPr>
              <a:t>Storybird: Write and collaborate on s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ndalus"/>
              </a:rPr>
              <a:t>www.storybir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3601"/>
                </a:solidFill>
                <a:latin typeface="Australian Sunrise"/>
              </a:rPr>
              <a:t>YouTub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4005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Forte"/>
              </a:rPr>
              <a:t>Slidesh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250920" y="189000"/>
            <a:ext cx="217440" cy="21564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780" h="21600">
                <a:moveTo>
                  <a:pt x="0" y="0"/>
                </a:moveTo>
                <a:lnTo>
                  <a:pt x="21780" y="0"/>
                </a:lnTo>
                <a:lnTo>
                  <a:pt x="21780" y="21600"/>
                </a:lnTo>
                <a:lnTo>
                  <a:pt x="0" y="21600"/>
                </a:lnTo>
                <a:close/>
              </a:path>
              <a:path fill="lightenLess" w="21780" h="21600">
                <a:moveTo>
                  <a:pt x="0" y="0"/>
                </a:moveTo>
                <a:lnTo>
                  <a:pt x="21780" y="0"/>
                </a:lnTo>
                <a:lnTo>
                  <a:pt x="20380" y="1400"/>
                </a:lnTo>
                <a:lnTo>
                  <a:pt x="1400" y="1400"/>
                </a:lnTo>
                <a:close/>
              </a:path>
              <a:path fill="darken" w="21780" h="21600">
                <a:moveTo>
                  <a:pt x="21780" y="0"/>
                </a:moveTo>
                <a:lnTo>
                  <a:pt x="21780" y="21600"/>
                </a:lnTo>
                <a:lnTo>
                  <a:pt x="20380" y="20200"/>
                </a:lnTo>
                <a:lnTo>
                  <a:pt x="20380" y="1400"/>
                </a:lnTo>
                <a:close/>
              </a:path>
              <a:path fill="darkenLess" w="21780" h="21600">
                <a:moveTo>
                  <a:pt x="21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80" y="20200"/>
                </a:lnTo>
                <a:close/>
              </a:path>
              <a:path fill="lighten" w="21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80" h="21600">
                <a:moveTo>
                  <a:pt x="3884" y="10800"/>
                </a:moveTo>
                <a:lnTo>
                  <a:pt x="17896" y="3794"/>
                </a:lnTo>
                <a:lnTo>
                  <a:pt x="17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 flipV="1" rot="10800000">
            <a:off x="684000" y="1124280"/>
            <a:ext cx="77072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lping them to learn 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 flipV="1" rot="10800000">
            <a:off x="1618920" y="1124640"/>
            <a:ext cx="56912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owcasing pupil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 in our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1557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want our pupils to be abl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 rot="10800000">
            <a:off x="539640" y="764280"/>
            <a:ext cx="77076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mote independent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V="1" rot="10800000">
            <a:off x="539640" y="764280"/>
            <a:ext cx="77090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hare authentic mater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V="1" rot="10800000">
            <a:off x="539640" y="980280"/>
            <a:ext cx="770904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Fu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1640" y="404640"/>
            <a:ext cx="712764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ns ma valise: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tgOcr_EFBs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3" action="ppaction://hlinksldjump"/>
          </p:cNvPr>
          <p:cNvSpPr/>
          <p:nvPr/>
        </p:nvSpPr>
        <p:spPr>
          <a:xfrm>
            <a:off x="324000" y="26028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7301" y="10818"/>
                </a:moveTo>
                <a:lnTo>
                  <a:pt x="17806" y="3812"/>
                </a:lnTo>
                <a:lnTo>
                  <a:pt x="17806" y="17824"/>
                </a:lnTo>
                <a:close/>
              </a:path>
              <a:path fill="darken" w="21600" h="21636">
                <a:moveTo>
                  <a:pt x="3794" y="3812"/>
                </a:moveTo>
                <a:lnTo>
                  <a:pt x="5456" y="3812"/>
                </a:lnTo>
                <a:lnTo>
                  <a:pt x="5456" y="17824"/>
                </a:lnTo>
                <a:lnTo>
                  <a:pt x="3794" y="1782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945640" cy="4857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flipV="1" rot="10800000">
            <a:off x="539640" y="549360"/>
            <a:ext cx="77076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89000"/>
            <a:ext cx="289080" cy="215640"/>
          </a:xfrm>
          <a:custGeom>
            <a:avLst/>
            <a:gdLst>
              <a:gd name="textAreaLeft" fmla="*/ 13680 w 289080"/>
              <a:gd name="textAreaRight" fmla="*/ 275400 w 2890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944" h="21600">
                <a:moveTo>
                  <a:pt x="0" y="0"/>
                </a:moveTo>
                <a:lnTo>
                  <a:pt x="28944" y="0"/>
                </a:lnTo>
                <a:lnTo>
                  <a:pt x="28944" y="21600"/>
                </a:lnTo>
                <a:lnTo>
                  <a:pt x="0" y="21600"/>
                </a:lnTo>
                <a:close/>
              </a:path>
              <a:path fill="lightenLess" w="28944" h="21600">
                <a:moveTo>
                  <a:pt x="0" y="0"/>
                </a:moveTo>
                <a:lnTo>
                  <a:pt x="28944" y="0"/>
                </a:lnTo>
                <a:lnTo>
                  <a:pt x="27544" y="1400"/>
                </a:lnTo>
                <a:lnTo>
                  <a:pt x="1400" y="1400"/>
                </a:lnTo>
                <a:close/>
              </a:path>
              <a:path fill="darken" w="28944" h="21600">
                <a:moveTo>
                  <a:pt x="28944" y="0"/>
                </a:moveTo>
                <a:lnTo>
                  <a:pt x="28944" y="21600"/>
                </a:lnTo>
                <a:lnTo>
                  <a:pt x="27544" y="20200"/>
                </a:lnTo>
                <a:lnTo>
                  <a:pt x="27544" y="1400"/>
                </a:lnTo>
                <a:close/>
              </a:path>
              <a:path fill="darkenLess" w="28944" h="21600">
                <a:moveTo>
                  <a:pt x="289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44" y="20200"/>
                </a:lnTo>
                <a:close/>
              </a:path>
              <a:path fill="lighten" w="289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44" h="21600">
                <a:moveTo>
                  <a:pt x="7466" y="10800"/>
                </a:moveTo>
                <a:lnTo>
                  <a:pt x="21478" y="3794"/>
                </a:lnTo>
                <a:lnTo>
                  <a:pt x="2147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 flipV="1" rot="10800000">
            <a:off x="2987640" y="188640"/>
            <a:ext cx="417672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eer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65920"/>
                <a:gridCol w="2259360"/>
                <a:gridCol w="2259360"/>
                <a:gridCol w="225936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49"/>
          <p:cNvSpPr/>
          <p:nvPr/>
        </p:nvSpPr>
        <p:spPr>
          <a:xfrm>
            <a:off x="0" y="11970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-j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2305080" y="11811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d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s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1"/>
          <p:cNvSpPr/>
          <p:nvPr/>
        </p:nvSpPr>
        <p:spPr>
          <a:xfrm>
            <a:off x="4572000" y="11253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u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2"/>
          <p:cNvSpPr/>
          <p:nvPr/>
        </p:nvSpPr>
        <p:spPr>
          <a:xfrm>
            <a:off x="6913440" y="11970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3"/>
          <p:cNvSpPr/>
          <p:nvPr/>
        </p:nvSpPr>
        <p:spPr>
          <a:xfrm>
            <a:off x="73080" y="290988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g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4"/>
          <p:cNvSpPr/>
          <p:nvPr/>
        </p:nvSpPr>
        <p:spPr>
          <a:xfrm>
            <a:off x="2305080" y="29098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i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5"/>
          <p:cNvSpPr/>
          <p:nvPr/>
        </p:nvSpPr>
        <p:spPr>
          <a:xfrm>
            <a:off x="4608360" y="290988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6"/>
          <p:cNvSpPr/>
          <p:nvPr/>
        </p:nvSpPr>
        <p:spPr>
          <a:xfrm>
            <a:off x="7740720" y="2852640"/>
            <a:ext cx="14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7"/>
          <p:cNvSpPr/>
          <p:nvPr/>
        </p:nvSpPr>
        <p:spPr>
          <a:xfrm>
            <a:off x="73080" y="456552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au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8"/>
          <p:cNvSpPr/>
          <p:nvPr/>
        </p:nvSpPr>
        <p:spPr>
          <a:xfrm>
            <a:off x="2195640" y="458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Eu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9"/>
          <p:cNvSpPr/>
          <p:nvPr/>
        </p:nvSpPr>
        <p:spPr>
          <a:xfrm>
            <a:off x="4681440" y="458136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äu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0"/>
          <p:cNvSpPr/>
          <p:nvPr/>
        </p:nvSpPr>
        <p:spPr>
          <a:xfrm>
            <a:off x="6877080" y="462744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ö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1"/>
          <p:cNvSpPr/>
          <p:nvPr/>
        </p:nvSpPr>
        <p:spPr>
          <a:xfrm>
            <a:off x="73080" y="6294600"/>
            <a:ext cx="21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ü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2"/>
          <p:cNvSpPr/>
          <p:nvPr/>
        </p:nvSpPr>
        <p:spPr>
          <a:xfrm>
            <a:off x="2376360" y="62946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ä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3"/>
          <p:cNvSpPr/>
          <p:nvPr/>
        </p:nvSpPr>
        <p:spPr>
          <a:xfrm>
            <a:off x="4537080" y="6294600"/>
            <a:ext cx="21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i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4"/>
          <p:cNvSpPr/>
          <p:nvPr/>
        </p:nvSpPr>
        <p:spPr>
          <a:xfrm>
            <a:off x="6913440" y="6294600"/>
            <a:ext cx="219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62" descr="j0236486"/>
          <p:cNvPicPr/>
          <p:nvPr/>
        </p:nvPicPr>
        <p:blipFill>
          <a:blip r:embed="rId1"/>
          <a:stretch/>
        </p:blipFill>
        <p:spPr>
          <a:xfrm>
            <a:off x="539640" y="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3" descr="rafting1"/>
          <p:cNvPicPr/>
          <p:nvPr/>
        </p:nvPicPr>
        <p:blipFill>
          <a:blip r:embed="rId2"/>
          <a:stretch/>
        </p:blipFill>
        <p:spPr>
          <a:xfrm rot="451800">
            <a:off x="2771640" y="0"/>
            <a:ext cx="1366920" cy="1160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4" descr="MCj04382490000[1]"/>
          <p:cNvPicPr/>
          <p:nvPr/>
        </p:nvPicPr>
        <p:blipFill>
          <a:blip r:embed="rId3"/>
          <a:stretch/>
        </p:blipFill>
        <p:spPr>
          <a:xfrm>
            <a:off x="5148360" y="189000"/>
            <a:ext cx="1152360" cy="1066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5" descr="j0239631"/>
          <p:cNvPicPr/>
          <p:nvPr/>
        </p:nvPicPr>
        <p:blipFill>
          <a:blip r:embed="rId4"/>
          <a:stretch/>
        </p:blipFill>
        <p:spPr>
          <a:xfrm>
            <a:off x="7524720" y="189000"/>
            <a:ext cx="909720" cy="1152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6" descr="j0180533"/>
          <p:cNvPicPr/>
          <p:nvPr/>
        </p:nvPicPr>
        <p:blipFill>
          <a:blip r:embed="rId5"/>
          <a:stretch/>
        </p:blipFill>
        <p:spPr>
          <a:xfrm>
            <a:off x="468360" y="1916280"/>
            <a:ext cx="1511280" cy="992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9" descr="MCj04125120000[1]"/>
          <p:cNvPicPr/>
          <p:nvPr/>
        </p:nvPicPr>
        <p:blipFill>
          <a:blip r:embed="rId6"/>
          <a:stretch/>
        </p:blipFill>
        <p:spPr>
          <a:xfrm rot="20398200">
            <a:off x="2987640" y="1773000"/>
            <a:ext cx="612720" cy="133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0" descr="j0130891"/>
          <p:cNvPicPr/>
          <p:nvPr/>
        </p:nvPicPr>
        <p:blipFill>
          <a:blip r:embed="rId7"/>
          <a:stretch/>
        </p:blipFill>
        <p:spPr>
          <a:xfrm>
            <a:off x="5003640" y="1773360"/>
            <a:ext cx="1324080" cy="12650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1" descr="j0271136"/>
          <p:cNvPicPr/>
          <p:nvPr/>
        </p:nvPicPr>
        <p:blipFill>
          <a:blip r:embed="rId8"/>
          <a:stretch/>
        </p:blipFill>
        <p:spPr>
          <a:xfrm>
            <a:off x="7236000" y="1916280"/>
            <a:ext cx="680760" cy="1341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2" descr="j0395804"/>
          <p:cNvPicPr/>
          <p:nvPr/>
        </p:nvPicPr>
        <p:blipFill>
          <a:blip r:embed="rId9"/>
          <a:stretch/>
        </p:blipFill>
        <p:spPr>
          <a:xfrm>
            <a:off x="755640" y="3500280"/>
            <a:ext cx="927000" cy="1081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4" descr="MCj02501820000[1]"/>
          <p:cNvPicPr/>
          <p:nvPr/>
        </p:nvPicPr>
        <p:blipFill>
          <a:blip r:embed="rId10"/>
          <a:stretch/>
        </p:blipFill>
        <p:spPr>
          <a:xfrm>
            <a:off x="5292720" y="3500280"/>
            <a:ext cx="84600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5" descr="bxd0mz11[1]"/>
          <p:cNvPicPr/>
          <p:nvPr/>
        </p:nvPicPr>
        <p:blipFill>
          <a:blip r:embed="rId11"/>
          <a:stretch/>
        </p:blipFill>
        <p:spPr>
          <a:xfrm>
            <a:off x="7451640" y="3500280"/>
            <a:ext cx="1224000" cy="11462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6" descr="MCj01336150000[1]"/>
          <p:cNvPicPr/>
          <p:nvPr/>
        </p:nvPicPr>
        <p:blipFill>
          <a:blip r:embed="rId12"/>
          <a:stretch/>
        </p:blipFill>
        <p:spPr>
          <a:xfrm>
            <a:off x="826920" y="5157720"/>
            <a:ext cx="878040" cy="1224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7" descr="MPj03154790000[1]"/>
          <p:cNvPicPr/>
          <p:nvPr/>
        </p:nvPicPr>
        <p:blipFill>
          <a:blip r:embed="rId13"/>
          <a:stretch/>
        </p:blipFill>
        <p:spPr>
          <a:xfrm>
            <a:off x="2916360" y="5300640"/>
            <a:ext cx="1295280" cy="917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9" descr="MCj04257900000[1]"/>
          <p:cNvPicPr/>
          <p:nvPr/>
        </p:nvPicPr>
        <p:blipFill>
          <a:blip r:embed="rId14"/>
          <a:stretch/>
        </p:blipFill>
        <p:spPr>
          <a:xfrm>
            <a:off x="5219640" y="5229360"/>
            <a:ext cx="1152720" cy="1049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3" descr="MCj04377970000[1]"/>
          <p:cNvPicPr/>
          <p:nvPr/>
        </p:nvPicPr>
        <p:blipFill>
          <a:blip r:embed="rId15"/>
          <a:stretch/>
        </p:blipFill>
        <p:spPr>
          <a:xfrm>
            <a:off x="7524720" y="5229360"/>
            <a:ext cx="1170000" cy="10522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4"/>
          <p:cNvSpPr/>
          <p:nvPr/>
        </p:nvSpPr>
        <p:spPr>
          <a:xfrm>
            <a:off x="7236000" y="61657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http://t0.gstatic.com/images?q=tbn:Q0gsXn6MWdlJQM:http://rodgerdodger.files.wordpress.com/2008/07/barred-owl.jpg"/>
          <p:cNvPicPr/>
          <p:nvPr/>
        </p:nvPicPr>
        <p:blipFill>
          <a:blip r:embed="rId16"/>
          <a:stretch/>
        </p:blipFill>
        <p:spPr>
          <a:xfrm>
            <a:off x="3132000" y="3573360"/>
            <a:ext cx="665280" cy="93528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rId17" action="ppaction://hlinksldjump"/>
          </p:cNvPr>
          <p:cNvSpPr/>
          <p:nvPr/>
        </p:nvSpPr>
        <p:spPr>
          <a:xfrm>
            <a:off x="179280" y="1197000"/>
            <a:ext cx="324000" cy="216000"/>
          </a:xfrm>
          <a:custGeom>
            <a:avLst/>
            <a:gdLst>
              <a:gd name="textAreaLeft" fmla="*/ 13680 w 324000"/>
              <a:gd name="textAreaRight" fmla="*/ 310320 w 324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32382" h="21600">
                <a:moveTo>
                  <a:pt x="0" y="0"/>
                </a:moveTo>
                <a:lnTo>
                  <a:pt x="32382" y="0"/>
                </a:lnTo>
                <a:lnTo>
                  <a:pt x="32382" y="21600"/>
                </a:lnTo>
                <a:lnTo>
                  <a:pt x="0" y="21600"/>
                </a:lnTo>
                <a:close/>
              </a:path>
              <a:path fill="lightenLess" w="32382" h="21600">
                <a:moveTo>
                  <a:pt x="0" y="0"/>
                </a:moveTo>
                <a:lnTo>
                  <a:pt x="32382" y="0"/>
                </a:lnTo>
                <a:lnTo>
                  <a:pt x="30982" y="1400"/>
                </a:lnTo>
                <a:lnTo>
                  <a:pt x="1400" y="1400"/>
                </a:lnTo>
                <a:close/>
              </a:path>
              <a:path fill="darken" w="32382" h="21600">
                <a:moveTo>
                  <a:pt x="32382" y="0"/>
                </a:moveTo>
                <a:lnTo>
                  <a:pt x="32382" y="21600"/>
                </a:lnTo>
                <a:lnTo>
                  <a:pt x="30982" y="20200"/>
                </a:lnTo>
                <a:lnTo>
                  <a:pt x="30982" y="1400"/>
                </a:lnTo>
                <a:close/>
              </a:path>
              <a:path fill="darkenLess" w="32382" h="21600">
                <a:moveTo>
                  <a:pt x="32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2" y="20200"/>
                </a:lnTo>
                <a:close/>
              </a:path>
              <a:path fill="lighten" w="32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2" h="21600">
                <a:moveTo>
                  <a:pt x="9185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9640" y="374040"/>
            <a:ext cx="813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</a:rPr>
              <a:t>Ton Christ est Ju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(Anonyme, Julos Beaucar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on Christ est juif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a voiture est japonaise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on couscous est algérien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a démocratie est grecque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on café est brésilien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on chianti est italien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                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Et tu reproches à ton voisin d'être un étranger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913800" cy="505620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2" action="ppaction://hlinksldjump"/>
          </p:cNvPr>
          <p:cNvSpPr/>
          <p:nvPr/>
        </p:nvSpPr>
        <p:spPr>
          <a:xfrm>
            <a:off x="395280" y="47628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06" name=""/>
          <p:cNvSpPr/>
          <p:nvPr/>
        </p:nvSpPr>
        <p:spPr>
          <a:xfrm flipV="1" rot="10800000">
            <a:off x="684000" y="1124280"/>
            <a:ext cx="7707240" cy="13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Helping them to learn vocabul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” Secondary Curricul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1341360"/>
            <a:ext cx="4176720" cy="4464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oss curric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rea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re engaging (compelling contex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cultural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95280" y="1341000"/>
            <a:ext cx="3641760" cy="3529080"/>
          </a:xfrm>
          <a:prstGeom prst="rect">
            <a:avLst/>
          </a:prstGeom>
          <a:solidFill>
            <a:srgbClr val="f30bb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s prescribed content with a focus on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5013360"/>
            <a:ext cx="46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ll-nsc.org.uk/nsc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 rot="10800000">
            <a:off x="539640" y="764280"/>
            <a:ext cx="7707600" cy="703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omote independent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435640" y="2781360"/>
            <a:ext cx="3097080" cy="1312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static than a blo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324000" y="189000"/>
            <a:ext cx="215640" cy="21564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50920" y="549360"/>
            <a:ext cx="4535280" cy="703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ww.etwinning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148360" y="4869000"/>
            <a:ext cx="2735280" cy="1312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velling b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627280" y="4437000"/>
            <a:ext cx="6120000" cy="1922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 project (in English) with France, Italy, Turkey, Romania, Po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619280" y="549360"/>
            <a:ext cx="4768920" cy="48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5867280" y="4581360"/>
            <a:ext cx="2952720" cy="1922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le class letter ex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324000" y="333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10800"/>
                </a:moveTo>
                <a:lnTo>
                  <a:pt x="20550" y="3794"/>
                </a:lnTo>
                <a:lnTo>
                  <a:pt x="2055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ig pi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4000" y="1203480"/>
            <a:ext cx="8424720" cy="565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ng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Users\Isabelle\Desktop\ScreenHunter_04 Apr. 10 12.51.gif"/>
          <p:cNvPicPr/>
          <p:nvPr/>
        </p:nvPicPr>
        <p:blipFill>
          <a:blip r:embed="rId1"/>
          <a:stretch/>
        </p:blipFill>
        <p:spPr>
          <a:xfrm>
            <a:off x="2195640" y="1268280"/>
            <a:ext cx="4608360" cy="4364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487960" y="5805360"/>
            <a:ext cx="43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-nsc.org.uk/nsc/?q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=node/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1916280"/>
            <a:ext cx="4319640" cy="703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Previous lear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2492280"/>
            <a:ext cx="3166920" cy="131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Mixed experi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221000"/>
            <a:ext cx="4824360" cy="1922400"/>
          </a:xfrm>
          <a:prstGeom prst="rect">
            <a:avLst/>
          </a:prstGeom>
          <a:solidFill>
            <a:srgbClr val="f0f6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What can we learn from Primary 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put this into pract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3284640"/>
            <a:ext cx="252108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tori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684360" y="1484280"/>
            <a:ext cx="2447640" cy="1297080"/>
          </a:xfrm>
          <a:custGeom>
            <a:avLst/>
            <a:gdLst>
              <a:gd name="textAreaLeft" fmla="*/ 83880 w 2447640"/>
              <a:gd name="textAreaRight" fmla="*/ 2363760 w 24476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0755" h="21600">
                <a:moveTo>
                  <a:pt x="0" y="0"/>
                </a:moveTo>
                <a:lnTo>
                  <a:pt x="40755" y="0"/>
                </a:lnTo>
                <a:lnTo>
                  <a:pt x="40755" y="21600"/>
                </a:lnTo>
                <a:lnTo>
                  <a:pt x="0" y="21600"/>
                </a:lnTo>
                <a:close/>
              </a:path>
              <a:path fill="lightenLess" w="40755" h="21600">
                <a:moveTo>
                  <a:pt x="0" y="0"/>
                </a:moveTo>
                <a:lnTo>
                  <a:pt x="40755" y="0"/>
                </a:lnTo>
                <a:lnTo>
                  <a:pt x="39355" y="1400"/>
                </a:lnTo>
                <a:lnTo>
                  <a:pt x="1400" y="1400"/>
                </a:lnTo>
                <a:close/>
              </a:path>
              <a:path fill="darken" w="40755" h="21600">
                <a:moveTo>
                  <a:pt x="40755" y="0"/>
                </a:moveTo>
                <a:lnTo>
                  <a:pt x="40755" y="21600"/>
                </a:lnTo>
                <a:lnTo>
                  <a:pt x="39355" y="20200"/>
                </a:lnTo>
                <a:lnTo>
                  <a:pt x="39355" y="1400"/>
                </a:lnTo>
                <a:close/>
              </a:path>
              <a:path fill="darkenLess" w="40755" h="21600">
                <a:moveTo>
                  <a:pt x="407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55" y="20200"/>
                </a:lnTo>
                <a:close/>
              </a:path>
              <a:path fill="lighten" w="407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2920" y="1773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3e336"/>
                </a:solidFill>
                <a:latin typeface="Arial"/>
              </a:rPr>
              <a:t>So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5651640" y="1484280"/>
            <a:ext cx="2808000" cy="1224000"/>
          </a:xfrm>
          <a:custGeom>
            <a:avLst/>
            <a:gdLst>
              <a:gd name="textAreaLeft" fmla="*/ 79200 w 2808000"/>
              <a:gd name="textAreaRight" fmla="*/ 2728800 w 2808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49545" h="21600">
                <a:moveTo>
                  <a:pt x="0" y="0"/>
                </a:moveTo>
                <a:lnTo>
                  <a:pt x="49545" y="0"/>
                </a:lnTo>
                <a:lnTo>
                  <a:pt x="49545" y="21600"/>
                </a:lnTo>
                <a:lnTo>
                  <a:pt x="0" y="21600"/>
                </a:lnTo>
                <a:close/>
              </a:path>
              <a:path fill="lightenLess" w="49545" h="21600">
                <a:moveTo>
                  <a:pt x="0" y="0"/>
                </a:moveTo>
                <a:lnTo>
                  <a:pt x="49545" y="0"/>
                </a:lnTo>
                <a:lnTo>
                  <a:pt x="48145" y="1400"/>
                </a:lnTo>
                <a:lnTo>
                  <a:pt x="1400" y="1400"/>
                </a:lnTo>
                <a:close/>
              </a:path>
              <a:path fill="darken" w="49545" h="21600">
                <a:moveTo>
                  <a:pt x="49545" y="0"/>
                </a:moveTo>
                <a:lnTo>
                  <a:pt x="49545" y="21600"/>
                </a:lnTo>
                <a:lnTo>
                  <a:pt x="48145" y="20200"/>
                </a:lnTo>
                <a:lnTo>
                  <a:pt x="48145" y="1400"/>
                </a:lnTo>
                <a:close/>
              </a:path>
              <a:path fill="darkenLess" w="49545" h="21600">
                <a:moveTo>
                  <a:pt x="49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145" y="20200"/>
                </a:lnTo>
                <a:close/>
              </a:path>
              <a:path fill="lighten" w="49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170028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62704"/>
                </a:solidFill>
                <a:latin typeface="Arial"/>
              </a:rPr>
              <a:t>Phon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5076720" y="4941720"/>
            <a:ext cx="2880000" cy="935280"/>
          </a:xfrm>
          <a:custGeom>
            <a:avLst/>
            <a:gdLst>
              <a:gd name="textAreaLeft" fmla="*/ 60480 w 2880000"/>
              <a:gd name="textAreaRight" fmla="*/ 2819520 w 288000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66495" h="21600">
                <a:moveTo>
                  <a:pt x="0" y="0"/>
                </a:moveTo>
                <a:lnTo>
                  <a:pt x="66495" y="0"/>
                </a:lnTo>
                <a:lnTo>
                  <a:pt x="66495" y="21600"/>
                </a:lnTo>
                <a:lnTo>
                  <a:pt x="0" y="21600"/>
                </a:lnTo>
                <a:close/>
              </a:path>
              <a:path fill="lightenLess" w="66495" h="21600">
                <a:moveTo>
                  <a:pt x="0" y="0"/>
                </a:moveTo>
                <a:lnTo>
                  <a:pt x="66495" y="0"/>
                </a:lnTo>
                <a:lnTo>
                  <a:pt x="65095" y="1400"/>
                </a:lnTo>
                <a:lnTo>
                  <a:pt x="1400" y="1400"/>
                </a:lnTo>
                <a:close/>
              </a:path>
              <a:path fill="darken" w="66495" h="21600">
                <a:moveTo>
                  <a:pt x="66495" y="0"/>
                </a:moveTo>
                <a:lnTo>
                  <a:pt x="66495" y="21600"/>
                </a:lnTo>
                <a:lnTo>
                  <a:pt x="65095" y="20200"/>
                </a:lnTo>
                <a:lnTo>
                  <a:pt x="65095" y="1400"/>
                </a:lnTo>
                <a:close/>
              </a:path>
              <a:path fill="darkenLess" w="66495" h="21600">
                <a:moveTo>
                  <a:pt x="66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095" y="20200"/>
                </a:lnTo>
                <a:close/>
              </a:path>
              <a:path fill="lighten" w="66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508464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oe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4356000" y="3357720"/>
            <a:ext cx="4608720" cy="863280"/>
          </a:xfrm>
          <a:custGeom>
            <a:avLst/>
            <a:gdLst>
              <a:gd name="textAreaLeft" fmla="*/ 55800 w 4608720"/>
              <a:gd name="textAreaRight" fmla="*/ 4552920 w 4608720"/>
              <a:gd name="textAreaTop" fmla="*/ 55800 h 863280"/>
              <a:gd name="textAreaBottom" fmla="*/ 807480 h 863280"/>
            </a:gdLst>
            <a:ahLst/>
            <a:rect l="textAreaLeft" t="textAreaTop" r="textAreaRight" b="textAreaBottom"/>
            <a:pathLst>
              <a:path w="115275" h="21600">
                <a:moveTo>
                  <a:pt x="0" y="0"/>
                </a:moveTo>
                <a:lnTo>
                  <a:pt x="115275" y="0"/>
                </a:lnTo>
                <a:lnTo>
                  <a:pt x="115275" y="21600"/>
                </a:lnTo>
                <a:lnTo>
                  <a:pt x="0" y="21600"/>
                </a:lnTo>
                <a:close/>
              </a:path>
              <a:path fill="lightenLess" w="115275" h="21600">
                <a:moveTo>
                  <a:pt x="0" y="0"/>
                </a:moveTo>
                <a:lnTo>
                  <a:pt x="115275" y="0"/>
                </a:lnTo>
                <a:lnTo>
                  <a:pt x="113875" y="1400"/>
                </a:lnTo>
                <a:lnTo>
                  <a:pt x="1400" y="1400"/>
                </a:lnTo>
                <a:close/>
              </a:path>
              <a:path fill="darken" w="115275" h="21600">
                <a:moveTo>
                  <a:pt x="115275" y="0"/>
                </a:moveTo>
                <a:lnTo>
                  <a:pt x="115275" y="21600"/>
                </a:lnTo>
                <a:lnTo>
                  <a:pt x="113875" y="20200"/>
                </a:lnTo>
                <a:lnTo>
                  <a:pt x="113875" y="1400"/>
                </a:lnTo>
                <a:close/>
              </a:path>
              <a:path fill="darkenLess" w="115275" h="21600">
                <a:moveTo>
                  <a:pt x="1152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875" y="20200"/>
                </a:lnTo>
                <a:close/>
              </a:path>
              <a:path fill="lighten" w="1152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342900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ational li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5" action="ppaction://hlinksldjump"/>
          </p:cNvPr>
          <p:cNvSpPr/>
          <p:nvPr/>
        </p:nvSpPr>
        <p:spPr>
          <a:xfrm>
            <a:off x="611280" y="5157720"/>
            <a:ext cx="2305080" cy="1079640"/>
          </a:xfrm>
          <a:custGeom>
            <a:avLst/>
            <a:gdLst>
              <a:gd name="textAreaLeft" fmla="*/ 69840 w 2305080"/>
              <a:gd name="textAreaRight" fmla="*/ 2235240 w 2305080"/>
              <a:gd name="textAreaTop" fmla="*/ 69840 h 1079640"/>
              <a:gd name="textAreaBottom" fmla="*/ 1009800 h 1079640"/>
            </a:gdLst>
            <a:ahLst/>
            <a:rect l="textAreaLeft" t="textAreaTop" r="textAreaRight" b="textAreaBottom"/>
            <a:pathLst>
              <a:path w="46109" h="21600">
                <a:moveTo>
                  <a:pt x="0" y="0"/>
                </a:moveTo>
                <a:lnTo>
                  <a:pt x="46109" y="0"/>
                </a:lnTo>
                <a:lnTo>
                  <a:pt x="46109" y="21600"/>
                </a:lnTo>
                <a:lnTo>
                  <a:pt x="0" y="21600"/>
                </a:lnTo>
                <a:close/>
              </a:path>
              <a:path fill="lightenLess" w="46109" h="21600">
                <a:moveTo>
                  <a:pt x="0" y="0"/>
                </a:moveTo>
                <a:lnTo>
                  <a:pt x="46109" y="0"/>
                </a:lnTo>
                <a:lnTo>
                  <a:pt x="44709" y="1400"/>
                </a:lnTo>
                <a:lnTo>
                  <a:pt x="1400" y="1400"/>
                </a:lnTo>
                <a:close/>
              </a:path>
              <a:path fill="darken" w="46109" h="21600">
                <a:moveTo>
                  <a:pt x="46109" y="0"/>
                </a:moveTo>
                <a:lnTo>
                  <a:pt x="46109" y="21600"/>
                </a:lnTo>
                <a:lnTo>
                  <a:pt x="44709" y="20200"/>
                </a:lnTo>
                <a:lnTo>
                  <a:pt x="44709" y="1400"/>
                </a:lnTo>
                <a:close/>
              </a:path>
              <a:path fill="darkenLess" w="46109" h="21600">
                <a:moveTo>
                  <a:pt x="461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709" y="20200"/>
                </a:lnTo>
                <a:close/>
              </a:path>
              <a:path fill="lighten" w="461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42920" y="5300640"/>
            <a:ext cx="1152720" cy="76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0bb6"/>
                </a:solidFill>
                <a:latin typeface="Arial"/>
              </a:rPr>
              <a:t>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ing a real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2781360"/>
            <a:ext cx="8424720" cy="1993320"/>
          </a:xfrm>
          <a:prstGeom prst="rect">
            <a:avLst/>
          </a:prstGeom>
          <a:solidFill>
            <a:srgbClr val="f627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Podc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Explain –er verbs / irregular verbs / explain anything / pronunciatio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1484280"/>
            <a:ext cx="2737080" cy="916920"/>
          </a:xfrm>
          <a:prstGeom prst="rect">
            <a:avLst/>
          </a:prstGeom>
          <a:solidFill>
            <a:srgbClr val="f30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99"/>
                </a:solidFill>
                <a:latin typeface="Arial"/>
              </a:rPr>
              <a:t>Lett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179280" y="1197000"/>
            <a:ext cx="5616720" cy="1368360"/>
          </a:xfrm>
          <a:custGeom>
            <a:avLst/>
            <a:gdLst>
              <a:gd name="textAreaLeft" fmla="*/ 88560 w 5616720"/>
              <a:gd name="textAreaRight" fmla="*/ 5528160 w 561672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88644" h="21600">
                <a:moveTo>
                  <a:pt x="0" y="0"/>
                </a:moveTo>
                <a:lnTo>
                  <a:pt x="88644" y="0"/>
                </a:lnTo>
                <a:lnTo>
                  <a:pt x="88644" y="21600"/>
                </a:lnTo>
                <a:lnTo>
                  <a:pt x="0" y="21600"/>
                </a:lnTo>
                <a:close/>
              </a:path>
              <a:path fill="lightenLess" w="88644" h="21600">
                <a:moveTo>
                  <a:pt x="0" y="0"/>
                </a:moveTo>
                <a:lnTo>
                  <a:pt x="88644" y="0"/>
                </a:lnTo>
                <a:lnTo>
                  <a:pt x="87244" y="1400"/>
                </a:lnTo>
                <a:lnTo>
                  <a:pt x="1400" y="1400"/>
                </a:lnTo>
                <a:close/>
              </a:path>
              <a:path fill="darken" w="88644" h="21600">
                <a:moveTo>
                  <a:pt x="88644" y="0"/>
                </a:moveTo>
                <a:lnTo>
                  <a:pt x="88644" y="21600"/>
                </a:lnTo>
                <a:lnTo>
                  <a:pt x="87244" y="20200"/>
                </a:lnTo>
                <a:lnTo>
                  <a:pt x="87244" y="1400"/>
                </a:lnTo>
                <a:close/>
              </a:path>
              <a:path fill="darkenLess" w="88644" h="21600">
                <a:moveTo>
                  <a:pt x="886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244" y="20200"/>
                </a:lnTo>
                <a:close/>
              </a:path>
              <a:path fill="lighten" w="886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13e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268280"/>
            <a:ext cx="4897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angwitch.org/stmichaelsmf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" action="ppaction://hlinksldjump"/>
          </p:cNvPr>
          <p:cNvSpPr/>
          <p:nvPr/>
        </p:nvSpPr>
        <p:spPr>
          <a:xfrm>
            <a:off x="900000" y="5300640"/>
            <a:ext cx="5977080" cy="1297080"/>
          </a:xfrm>
          <a:custGeom>
            <a:avLst/>
            <a:gdLst>
              <a:gd name="textAreaLeft" fmla="*/ 83880 w 5977080"/>
              <a:gd name="textAreaRight" fmla="*/ 5893200 w 597708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99513" h="21600">
                <a:moveTo>
                  <a:pt x="0" y="0"/>
                </a:moveTo>
                <a:lnTo>
                  <a:pt x="99513" y="0"/>
                </a:lnTo>
                <a:lnTo>
                  <a:pt x="99513" y="21600"/>
                </a:lnTo>
                <a:lnTo>
                  <a:pt x="0" y="21600"/>
                </a:lnTo>
                <a:close/>
              </a:path>
              <a:path fill="lightenLess" w="99513" h="21600">
                <a:moveTo>
                  <a:pt x="0" y="0"/>
                </a:moveTo>
                <a:lnTo>
                  <a:pt x="99513" y="0"/>
                </a:lnTo>
                <a:lnTo>
                  <a:pt x="98113" y="1400"/>
                </a:lnTo>
                <a:lnTo>
                  <a:pt x="1400" y="1400"/>
                </a:lnTo>
                <a:close/>
              </a:path>
              <a:path fill="darken" w="99513" h="21600">
                <a:moveTo>
                  <a:pt x="99513" y="0"/>
                </a:moveTo>
                <a:lnTo>
                  <a:pt x="99513" y="21600"/>
                </a:lnTo>
                <a:lnTo>
                  <a:pt x="98113" y="20200"/>
                </a:lnTo>
                <a:lnTo>
                  <a:pt x="98113" y="1400"/>
                </a:lnTo>
                <a:close/>
              </a:path>
              <a:path fill="darkenLess" w="99513" h="21600">
                <a:moveTo>
                  <a:pt x="9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8113" y="20200"/>
                </a:lnTo>
                <a:close/>
              </a:path>
              <a:path fill="lighten" w="9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19280" y="5373720"/>
            <a:ext cx="4681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62704"/>
                </a:solidFill>
                <a:latin typeface="Arial"/>
              </a:rPr>
              <a:t>Wik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62704"/>
                </a:solidFill>
                <a:latin typeface="Arial"/>
              </a:rPr>
              <a:t>www.langwitch.wikispace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lena Butterfield/Stockton LA CPD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18:02:08Z</dcterms:created>
  <dc:creator>Helena</dc:creator>
  <dc:description/>
  <dc:language>en-US</dc:language>
  <cp:lastModifiedBy>Helena</cp:lastModifiedBy>
  <dcterms:modified xsi:type="dcterms:W3CDTF">2010-10-21T21:20:53Z</dcterms:modified>
  <cp:revision>7</cp:revision>
  <dc:subject/>
  <dc:title>Spicing up your Y7 SOW</dc:title>
</cp:coreProperties>
</file>